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B438-3865-4C35-B67E-479472820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FDD6-2557-465C-8DD1-A08B47F62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4668-8505-448A-B2C1-D2535A9C4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DDB3-5AC9-45BB-A735-92104F133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23974-B984-46BC-B043-CA5B9F019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75404-A2C8-4C37-AECC-8D17D8FA8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094E2-888E-47FC-90FD-CEA639111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817EB-1BAD-4582-932A-A10B2A2F7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A001C-499F-4176-AAAD-9E11FB486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DD373-A5FF-49FE-80F8-5A4E66BC0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473B8-9CB9-4D89-8609-4BA1BE9F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6838-ED67-430F-B359-B09FF3F75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7A567-C001-4E7B-A776-817201A7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C7F87-ECC5-40D7-AFEB-4F55B570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F7E15-565B-4253-A9B8-4FC65303C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E50FE-1199-43C2-89BC-DEA5DD4DE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72BE6-BF41-4928-9D5F-09658AF4D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72CB-3B7A-490E-AFB7-C700D07E3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A194-9CE8-41D9-919F-A6E00FE08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6018-2E75-40D1-862F-F88F73180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CDA1-5666-4499-8562-3634FB7F4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D989-4491-4772-A6DA-B5A944D5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A3E4-47BD-4EF3-965E-849B61FB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3E8E-814C-476A-88FB-4FE69DD4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B3B8B-59CC-4A6C-8E19-2E2AD1F80D22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94191-292C-44F3-B67E-3095A2619902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reez si calculez…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Numarul grupe…………………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Numele si prenumele elevilor :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Elev1……………………………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Elev2…………………………….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Elev3…………………………...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Elev4……………………………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                  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ARCINA DE LUCU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legeti un fenomen chimic cunoscut de voi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-3052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crieti corect ecuatia reactiei chimic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-3052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alculati cantitatile de substante intrate si produse pe baza ecuatiei reactiei chimic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-3052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lcatuiti o problema de calcul de tip stoechiometric pe baza ecuatiei reactiei chimic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-3052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rezentati rezolvarea exercitiului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XEMPLU DE REACTI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Fenomenul ales:-stingerea varului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Ecuatia reactiei chimice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CaO +H2O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-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---&gt; Ca(OH)2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mol    1mol         1mo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M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aO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=40+16=56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M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2O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=2x1+16=18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M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a(OH)2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=40+2(16+1)=74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Enuntul exercitiului 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Cate kg de lapte de var obtinem prin  stingerea a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28 kg var nestins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 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ezolvarea exercitiului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Datele problemei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                 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m</a:t>
            </a: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CaO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=28kg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                 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m</a:t>
            </a: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Ca(OH)2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= 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56kgCaO……………….74kgCa(OH)2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28kgCaO…………………..X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      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X=28x74/56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      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X=74/2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      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X=37                                                                          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terpretarea rezultatului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asa varului stins obtinut prin stingerea a 28 kg CaO s-au obtinut 37kg Ca(OH)</a:t>
            </a: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11:38:47Z</dcterms:created>
  <dc:creator>Cursant12a</dc:creator>
  <dc:description/>
  <dc:language>en-US</dc:language>
  <cp:lastModifiedBy>andras</cp:lastModifiedBy>
  <dcterms:modified xsi:type="dcterms:W3CDTF">2010-08-25T13:30:28Z</dcterms:modified>
  <cp:revision>3</cp:revision>
  <dc:subject/>
  <dc:title>Creez si calculez…</dc:title>
</cp:coreProperties>
</file>